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E62-88BC-4091-B2F0-73EA2108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72C-408E-4B64-802C-300D9AC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7E0-A8C9-4D4F-96FC-5EEFC331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DA2-C01C-4BD6-8EE2-AF0AE326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BCF-6075-4604-A196-A7947D87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3A1-7EE3-4EFE-86B3-E04BDC3C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D27-7FDA-442D-9769-8C5EC1D3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46D-CDB5-410A-AB11-EBA3360C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DDB-5606-465E-9E0B-3DEA069D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BA4-11CD-4C59-8766-B4753BE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A20-6287-449B-9C0C-C481105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285-00F0-4442-BC50-D49A4DF7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B608-CC3E-4CAB-9389-A5800CC82B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troduction to the Baseline Study</a:t>
            </a: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vember 2010 – February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urpose, key questions and compon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urpose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105228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is baseline study relates to Changes 1, 2 and 3 of the projec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: Wereda, Regional, and/or NGO planners active in study site landscapes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using more effective tools for planning for RM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t landscape scale: (1) Evidence-based (2) Tailored to different social and ecological niches (3) Cross-sectoral (4) Particip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: Those implementing water resource and other agricultural development plans (Wereda and NGO staff) ar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ore effectively implementing RWM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3: Increase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llective action and institutions for uptake of RMS at farm and community level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and these supported by Wereda, DAs and NGO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urpose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baseline aims to do three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ovide a baseline for monitoring progress on the 3 changes, i.e. </a:t>
            </a: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 snapshot of the current situation in the study sites in terms of planning, implementation and innovation of RW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dentify actors to involve in woreda learning platfor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cope out key issues, barriers and opportunities to improve planning, implementation and innovation in RWM, to inform the next phase of in-depth action resear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o is involved in planning rainwater management (which sectors, which levels, government and non-government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is planning coordinated among these actor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tools and approaches are currently used for plann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ow are decisions made about rainwater management, e.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ich technologies and land management practices to impl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ere to site interven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How to share costs and benef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at say do farmers hav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re upstream/downstream linkages considered in plann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barriers prevent more effective plan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162828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o is responsible for implementing rainwater management at different leve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 do different actors coordinate their implem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level of knowledge and understanding do implementers ha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is currently being implemented in the si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es current implementation meet farmers’ nee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support do implementers rece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monitoring / learning / research takes place on rainwater managem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at barriers prevent better implement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questions - In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o is currently innovating in RW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support do they rece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networks currently exist and how do they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is the scope for organisations to collaborate for more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enables successful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barriers constrain innov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the 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 (national, regional and wore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ocument collection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views with key informants at woreda and kebel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cus group discussions with far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ysis workshop (Feb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port (by April 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28:10Z</dcterms:created>
  <dc:creator>jtucker</dc:creator>
  <dc:description/>
  <dc:language>en-US</dc:language>
  <cp:lastModifiedBy>jtucker</cp:lastModifiedBy>
  <dcterms:modified xsi:type="dcterms:W3CDTF">2010-11-08T04:27:23Z</dcterms:modified>
  <cp:revision>42</cp:revision>
  <dc:subject/>
  <dc:title>Baseline Study November 2010 – February 2011</dc:title>
</cp:coreProperties>
</file>